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EC107-CF24-4AB2-84E9-308ABD433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29F05-93D2-4022-8C6B-9C921718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DC897-0D00-4D20-B7CE-25472F788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17AAA-B748-479A-8374-61F836552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C4E66-7897-4569-95F0-0935EC8E5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E2FC2-EF4D-4973-B6CD-5E8DF826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CBE13-2E29-430E-B002-2F5EB1A27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4000-5971-47F0-88CA-A3C55CF95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268EB-31F4-4FA9-A579-C1EF9941F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285AE-58B8-4C6C-B080-82189D178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DA721-5931-4922-84E3-C2A087B2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05AC-DEC6-456D-922A-B2F93950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3F1BD-1E22-4042-A933-0D16319B1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858DC-CF79-48F9-A15E-B98B9782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6FCB6-B39C-4EC4-BDBD-4413D0002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EA529-940B-4208-A09C-B56B7B575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9E86F-53FF-4C73-8CDC-EF76C1D4B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21E5C-C4FA-4AF5-A378-FEC061FF27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21EDF-6A76-420F-B380-0DE075D73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134F0-BB36-4C1C-AED5-9C73523DF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91802-3564-4DB0-8E7F-847B3ECB2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119A3-656F-4185-83C3-9CCA5A917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7E358-4A02-4D53-ABC4-49B79E9A3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8C0B2-ACBB-4D58-A1FB-CF11CD16F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5463C-4F76-4009-8F28-D3B934BCD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D26F8-13B8-40B3-9D61-4AE45F04E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022C8-C362-41D4-AD0A-7B22EE4F0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BE1B1-71E4-4C62-B02F-5D04EA8EE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EA35E-75D9-41FF-A4B3-B13673388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42FCEB-C935-4383-BAAD-B17941A0A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3BFB83-74EA-4AD1-82C3-7D4451A548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279CB8-D157-4AFC-A574-6E9568D62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7497A-437B-4073-B843-DB9AA823D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9030-F853-4360-9664-2B87B0EBF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9F8E8-9EF4-41ED-B0CD-F6EBAF4C1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25C55-64C1-4174-9748-5BB87A080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0DE25-D92A-48F6-BC2C-E3E8A2A02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2A3FF-509C-4B42-8848-4F508B27C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EDEEE-CD96-4E99-A7D6-9D06E72B6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054FE-896C-49E5-9990-185183257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4981A-BB6D-4CD8-86AC-FE474B2F0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7A914-4CB1-4C10-B2D4-18EF0469B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61FD2-522E-4D06-9C0E-A7A57D6CD9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46623-4B2C-4B68-8DB5-6C1690265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93B3-5FE3-48E1-A169-69D4CD97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839F-B8DF-4480-B3FF-42C11416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BE3C-C3EA-4A9B-8319-44C5EBB1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DC1A-D03E-4607-BB3E-7F5840896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7695-A1C8-44B8-98E0-B7F816E3FE5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8BF1-9C31-406F-BAD7-30DE96C5C46A}"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27B4-37DB-4482-9E72-271D88827E0C}"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B87E-021C-4457-91F4-B6120209D28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xpirience.ru/pochemu-nebo-goluboe/" TargetMode="External"/><Relationship Id="rId2" Type="http://schemas.openxmlformats.org/officeDocument/2006/relationships/hyperlink" Target="http://ru.wikipedia.org/wiki/&#1044;&#1080;&#1089;&#1087;&#1077;&#1088;&#1089;&#1080;&#1103;_&#1089;&#1074;&#1077;&#1090;&#1072;" TargetMode="External"/><Relationship Id="rId3" Type="http://schemas.openxmlformats.org/officeDocument/2006/relationships/hyperlink" Target="http://ru.wikipedia.org/wiki/&#1044;&#1080;&#1089;&#1087;&#1077;&#1088;&#1089;&#1080;&#1103;_&#1089;&#1074;&#1077;&#1090;&#1072;" TargetMode="External"/><Relationship Id="rId4" Type="http://schemas.openxmlformats.org/officeDocument/2006/relationships/hyperlink" Target="http://ru.wikipedia.org/wiki/&#1060;&#1072;&#1081;&#1083;:Prism_rainbow_schema.png" TargetMode="External"/><Relationship Id="rId5" Type="http://schemas.openxmlformats.org/officeDocument/2006/relationships/hyperlink" Target="http://ru.wikipedia.org/wiki/&#1060;&#1072;&#1081;&#1083;:Prism_rainbow_schema.png" TargetMode="External"/><Relationship Id="rId6" Type="http://schemas.openxmlformats.org/officeDocument/2006/relationships/hyperlink" Target="http://ru.wikipedia.org/wiki/&#1060;&#1072;&#1081;&#1083;:Prism_rainbow_schema.png"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672_&#1075;&#1086;&#1076;"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0280" y="701640"/>
            <a:ext cx="8516880" cy="2505240"/>
          </a:xfrm>
          <a:prstGeom prst="rect">
            <a:avLst/>
          </a:prstGeom>
          <a:ln w="0">
            <a:noFill/>
          </a:ln>
        </p:spPr>
      </p:pic>
      <p:sp>
        <p:nvSpPr>
          <p:cNvPr id="196" name="PlaceHolder 1"/>
          <p:cNvSpPr>
            <a:spLocks noGrp="1"/>
          </p:cNvSpPr>
          <p:nvPr>
            <p:ph type="subTitle"/>
          </p:nvPr>
        </p:nvSpPr>
        <p:spPr>
          <a:xfrm>
            <a:off x="5429160" y="4071960"/>
            <a:ext cx="3129120" cy="1566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дготовил: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ученик 10 «а» класса</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И.Иванов</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вет</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голубое потому что, лучи света проходя через земную атмосферу испытывают дисперсию, как и все лучи света на Земле.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вот почему больше всех попадает голубой цвет, это вопрос друго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expirience.ru/pochemu-nebo-golubo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ru.wikipedia.org/wiki/</a:t>
            </a:r>
            <a:r>
              <a:rPr b="0" lang="ru-RU" sz="2600" spc="-1" strike="noStrike" u="sng">
                <a:solidFill>
                  <a:srgbClr val="e2d700"/>
                </a:solidFill>
                <a:uFillTx/>
                <a:latin typeface="Constantia"/>
                <a:hlinkClick r:id="rId3"/>
              </a:rPr>
              <a:t>Дисперсия_свет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4"/>
              </a:rPr>
              <a:t>http://ru.wikipedia.org/wiki/</a:t>
            </a:r>
            <a:r>
              <a:rPr b="0" lang="ru-RU" sz="2600" spc="-1" strike="noStrike" u="sng">
                <a:solidFill>
                  <a:srgbClr val="e2d700"/>
                </a:solidFill>
                <a:uFillTx/>
                <a:latin typeface="Constantia"/>
                <a:hlinkClick r:id="rId5"/>
              </a:rPr>
              <a:t>Файл:</a:t>
            </a:r>
            <a:r>
              <a:rPr b="0" lang="en-US" sz="2600" spc="-1" strike="noStrike" u="sng">
                <a:solidFill>
                  <a:srgbClr val="e2d700"/>
                </a:solidFill>
                <a:uFillTx/>
                <a:latin typeface="Constantia"/>
                <a:hlinkClick r:id="rId6"/>
              </a:rPr>
              <a:t>Prism_rainbow_schema.p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google.ru/search?rlz=1C1_____enRU375RU375&amp;sourceid=chrome&amp;ie=UTF-8&amp;q=</a:t>
            </a:r>
            <a:r>
              <a:rPr b="0" lang="ru-RU" sz="2600" spc="-1" strike="noStrike">
                <a:solidFill>
                  <a:srgbClr val="000000"/>
                </a:solidFill>
                <a:latin typeface="Constantia"/>
              </a:rPr>
              <a:t>Почему+небо+голубое+физик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856800"/>
            <a:ext cx="8229600" cy="5467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очему оно голубое? С таким вопросом приходиться сталкиваться практически всем родителям. А иногда и взрослые сами не понимают, </a:t>
            </a:r>
            <a:r>
              <a:rPr b="1" lang="ru-RU" sz="2600" spc="-1" strike="noStrike">
                <a:solidFill>
                  <a:srgbClr val="000000"/>
                </a:solidFill>
                <a:latin typeface="Constantia"/>
              </a:rPr>
              <a:t>почему же небо окрашено в голубой цвет</a:t>
            </a:r>
            <a:r>
              <a:rPr b="0" lang="ru-RU" sz="2600" spc="-1" strike="noStrike">
                <a:solidFill>
                  <a:srgbClr val="000000"/>
                </a:solidFill>
                <a:latin typeface="Constantia"/>
              </a:rPr>
              <a:t>. Вообще, для человека, глядящего в небо, в эту голубую бесконечность, не понятно, что там наверху, отчего небо голубое, а например заря, красная? Чтобы понять, как окрашивается небо, нужно понять и друго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емного истории</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еловечество с давних времен интересовало, почему же, небо голубого цвета. Придумывалось очень много гипотез и предположений. Например, Леонардо да Винчи, предполагал, что небо окрашено в такой цвет, потому что,  „...светлота поверх темноты становится синей, тем более прекрасной, чем превосходными будут светлое и темно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357360" y="1142640"/>
            <a:ext cx="532908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много позже в XVIII в., считалось, что цвет небу придают составные части воздуха. По этой теории считалось, что воздух содержит много примесей, так как чистый воздух был бы черным. После этой теории  было ещё очень много предположений и догадок, но не одна так и не смогла оправдать себя.</a:t>
            </a:r>
            <a:endParaRPr b="0" lang="en-US" sz="2600" spc="-1" strike="noStrike">
              <a:solidFill>
                <a:srgbClr val="000000"/>
              </a:solidFill>
              <a:latin typeface="Constantia"/>
            </a:endParaRPr>
          </a:p>
        </p:txBody>
      </p:sp>
      <p:pic>
        <p:nvPicPr>
          <p:cNvPr id="201" name="небо2" descr=""/>
          <p:cNvPicPr/>
          <p:nvPr/>
        </p:nvPicPr>
        <p:blipFill>
          <a:blip r:embed="rId1"/>
          <a:stretch/>
        </p:blipFill>
        <p:spPr>
          <a:xfrm>
            <a:off x="214200" y="1143000"/>
            <a:ext cx="30006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01"/>
                    </p:tgtEl>
                  </p:cond>
                </p:stCondLst>
                <p:childTnLst>
                  <p:par>
                    <p:cTn id="8" fill="hold">
                      <p:stCondLst>
                        <p:cond evt="onClick">
                          <p:tgtEl>
                            <p:spTgt spid="2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Что такое небо</a:t>
            </a:r>
            <a:endParaRPr b="0" lang="en-US" sz="5000" spc="-1" strike="noStrike">
              <a:solidFill>
                <a:srgbClr val="04617b"/>
              </a:solidFill>
              <a:latin typeface="Calibri"/>
            </a:endParaRPr>
          </a:p>
        </p:txBody>
      </p:sp>
      <p:sp>
        <p:nvSpPr>
          <p:cNvPr id="203" name=""/>
          <p:cNvSpPr txBox="1"/>
          <p:nvPr/>
        </p:nvSpPr>
        <p:spPr>
          <a:xfrm>
            <a:off x="457200" y="1934640"/>
            <a:ext cx="48290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это бесконечность. Для любого народа, небо символ чистоты, ведь считается, что там живет сам Бог. Люди, обращаясь к небу, просят дождя, или наоборот солнца. То есть, небо не просто воздух, небо это символ чистоты и непорочности.</a:t>
            </a:r>
            <a:endParaRPr b="0" lang="en-US" sz="2600" spc="-1" strike="noStrike">
              <a:solidFill>
                <a:srgbClr val="000000"/>
              </a:solidFill>
              <a:latin typeface="Constantia"/>
            </a:endParaRPr>
          </a:p>
        </p:txBody>
      </p:sp>
      <p:pic>
        <p:nvPicPr>
          <p:cNvPr id="204" name="Picture 2" descr="M:\Shander_Alexander\trash\4027.jpg"/>
          <p:cNvPicPr/>
          <p:nvPr/>
        </p:nvPicPr>
        <p:blipFill>
          <a:blip r:embed="rId1"/>
          <a:stretch/>
        </p:blipFill>
        <p:spPr>
          <a:xfrm>
            <a:off x="5429160" y="2428920"/>
            <a:ext cx="3424320" cy="29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 точки зрения физики</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о на практике, как говорят физики, небо это просто воздух, окрашенный солнечными лучами. Если говорить проще, то солнце светит на Землю, но солнечные лучи для этого должны пройти через огромный слой воздуха, который буквально окутывает Землю. А так, как солнечный луч имеет множество цветов, а точнее семь цветов радуги</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6840" y="856800"/>
            <a:ext cx="3686040" cy="5467320"/>
          </a:xfrm>
          <a:prstGeom prst="rect">
            <a:avLst/>
          </a:prstGeom>
          <a:noFill/>
          <a:ln w="0">
            <a:noFill/>
          </a:ln>
        </p:spPr>
        <p:txBody>
          <a:bodyPr anchor="t">
            <a:normAutofit fontScale="94000"/>
          </a:bodyPr>
          <a:p>
            <a:pPr marL="256320" indent="-256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Для тех, кто не знает, стоит напомнить, что семь цветов радуги это красный, оранжевый, желтый, зеленый, голубой, синий, фиолетовый. Причем, все эти цвета имеет каждый луч и он, проходя через этот слой воздуха, то он разбрызгивает во все стороны различные цвета радуги, но вот сильнее всего происходит раскидывание голубого цвета, за счет которого небо и приобретает голубую окраску. Если охарактеризовать коротко, то голубое небо – это брызги, которые дает луч, окрашенный в этот цвет.</a:t>
            </a:r>
            <a:endParaRPr b="0" lang="en-US" sz="2000" spc="-1" strike="noStrike">
              <a:solidFill>
                <a:srgbClr val="000000"/>
              </a:solidFill>
              <a:latin typeface="Constantia"/>
            </a:endParaRPr>
          </a:p>
        </p:txBody>
      </p:sp>
      <p:pic>
        <p:nvPicPr>
          <p:cNvPr id="208" name="Picture 4" descr="M:\Shander_Alexander\trash\23902_or.jpg"/>
          <p:cNvPicPr/>
          <p:nvPr/>
        </p:nvPicPr>
        <p:blipFill>
          <a:blip r:embed="rId1"/>
          <a:stretch/>
        </p:blipFill>
        <p:spPr>
          <a:xfrm>
            <a:off x="4786200" y="1500120"/>
            <a:ext cx="3857760" cy="385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исперсия</a:t>
            </a:r>
            <a:endParaRPr b="0" lang="en-US" sz="5000" spc="-1" strike="noStrike">
              <a:solidFill>
                <a:srgbClr val="04617b"/>
              </a:solidFill>
              <a:latin typeface="Calibri"/>
            </a:endParaRPr>
          </a:p>
        </p:txBody>
      </p:sp>
      <p:sp>
        <p:nvSpPr>
          <p:cNvPr id="210" name=""/>
          <p:cNvSpPr txBox="1"/>
          <p:nvPr/>
        </p:nvSpPr>
        <p:spPr>
          <a:xfrm>
            <a:off x="456840" y="1934640"/>
            <a:ext cx="4900680" cy="4389480"/>
          </a:xfrm>
          <a:prstGeom prst="rect">
            <a:avLst/>
          </a:prstGeom>
          <a:noFill/>
          <a:ln w="0">
            <a:noFill/>
          </a:ln>
        </p:spPr>
        <p:txBody>
          <a:bodyPr anchor="t">
            <a:normAutofit fontScale="98000"/>
          </a:bodyPr>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Диспе́рсия све́та</a:t>
            </a:r>
            <a:r>
              <a:rPr b="0" lang="ru-RU" sz="2200" spc="-1" strike="noStrike">
                <a:solidFill>
                  <a:srgbClr val="000000"/>
                </a:solidFill>
                <a:latin typeface="Constantia"/>
              </a:rPr>
              <a:t> </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зложение света) — это явление зависимости абсолютного показателя преломления вещества от длины волны (или частоты) света (частотная дисперсия), или, что то же самое, зависимость фазовой скорости света в веществе от длины волны (или частоты). Экспериментально открыта Ньютоном около </a:t>
            </a:r>
            <a:r>
              <a:rPr b="0" lang="ru-RU" sz="2200" spc="-1" strike="noStrike" u="sng">
                <a:solidFill>
                  <a:srgbClr val="e2d700"/>
                </a:solidFill>
                <a:uFillTx/>
                <a:latin typeface="Constantia"/>
                <a:hlinkClick r:id="rId1"/>
              </a:rPr>
              <a:t>1672 года</a:t>
            </a:r>
            <a:r>
              <a:rPr b="0" lang="ru-RU" sz="2200" spc="-1" strike="noStrike">
                <a:solidFill>
                  <a:srgbClr val="000000"/>
                </a:solidFill>
                <a:latin typeface="Constantia"/>
              </a:rPr>
              <a:t>, хотя теоретически достаточно хорошо объяснена значительно позднее.</a:t>
            </a:r>
            <a:endParaRPr b="0" lang="en-US" sz="2200" spc="-1" strike="noStrike">
              <a:solidFill>
                <a:srgbClr val="000000"/>
              </a:solidFill>
              <a:latin typeface="Constantia"/>
            </a:endParaRPr>
          </a:p>
        </p:txBody>
      </p:sp>
      <p:pic>
        <p:nvPicPr>
          <p:cNvPr id="211" name="Picture 3" descr="M:\Shander_Alexander\trash\Prism_rainbow_schema.png"/>
          <p:cNvPicPr/>
          <p:nvPr/>
        </p:nvPicPr>
        <p:blipFill>
          <a:blip r:embed="rId2"/>
          <a:stretch/>
        </p:blipFill>
        <p:spPr>
          <a:xfrm>
            <a:off x="5786280" y="2571840"/>
            <a:ext cx="263844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ебо меняет цвет</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бо не всегда бывает голубого цвета, оно имеет свойство менять цвет. Все, наверное, замечали, что иногда оно беловатое, иногда иссиня-черное… Почему так? Например, ночью, когда солнце не посылает свои лучи, мы видим небо не голубым, атмосфера кажется нам прозрачной. И сквозь прозрачный воздух, человек может увидеть планеты и звезды. А днем, голубой цвет снова надежно спрячет от посторонних глаз таинственный космо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18:55:23Z</dcterms:created>
  <dc:creator>Александр</dc:creator>
  <dc:description/>
  <dc:language>en-US</dc:language>
  <cp:lastModifiedBy>Александр</cp:lastModifiedBy>
  <dcterms:modified xsi:type="dcterms:W3CDTF">2010-06-04T19:16:24Z</dcterms:modified>
  <cp:revision>3</cp:revision>
  <dc:subject/>
  <dc:title>Почему небо голубое?</dc:title>
</cp:coreProperties>
</file>